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96A6-7E63-456E-9656-DE2244AD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9367-7B7E-4042-A1C0-908DBF2A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573D-CBC8-47FA-B676-C4A94EE8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C233-ACE4-4C0D-A096-C875E2A2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A2E8-8003-4D95-9D08-D072E459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AF2F-6950-46E2-B088-64F99AB2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5F5C-81BD-4924-AD40-5EF7E0C1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45E0-CB74-4F6D-A0AC-59EC500F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3334-74F2-4D07-A308-CEB73912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5167-AFDD-45EB-BDD1-AFF664D1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0ECF-59AF-46D4-B060-12E121BD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0D2E-9E16-4337-84E9-44D929A9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AD53-14C0-49D9-B365-F6CF02653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06560" y="1268280"/>
            <a:ext cx="63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«Без сомнения, все наше знание начинается с опыта.»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                                         </a:t>
            </a: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И .К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79640" y="1416240"/>
            <a:ext cx="611964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Как ведёт себя лёд в во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Как ведёт себя лё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в бензи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Что произойдёт с куском железа, если его опустить в рту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А если в ртуть поместить золо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Покажите поведение пластилина в вод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941400" cy="1370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411280" y="69228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50"/>
                </a:solidFill>
                <a:latin typeface="Times New Roman"/>
              </a:rPr>
              <a:t>Используйте таблицы стр. 50 - 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school2208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08000" y="476280"/>
            <a:ext cx="604872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0"/>
                </a:solidFill>
                <a:latin typeface="Times New Roman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§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 50, ответить на вопросы, упр. 25 (4,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Сделать подборку загадок, стихов или афоризмов по теме «Сила Архимеда. Плавание тел» (с рисункам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Подготовить сообщение о плавании су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15980" t="345" r="6249" b="0"/>
          <a:stretch/>
        </p:blipFill>
        <p:spPr>
          <a:xfrm>
            <a:off x="7020000" y="4941720"/>
            <a:ext cx="1585800" cy="1559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chool2208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908000" y="1082160"/>
            <a:ext cx="705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ышкин А.В. Физка 7 кл, М., Дрофа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жения плавающих тел http://ebook-teacher.blogspot.ru/2012/03/blog-post_2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fizika.ru/proverka/index.php?mode=proverjalka&amp;theme=02&amp;id=2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жение для оформления слайдов http://allforchildren.ru/pictures/showimg/school22/school2208jpg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95640" y="549360"/>
            <a:ext cx="65516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1. Сила тяжести определя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mg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h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2. Сила тяжести направлена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Вверх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Вниз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Горизонт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3.  Сила Архимеда определя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mg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h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63640" y="981000"/>
            <a:ext cx="597708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4.  Сила Архимеда направлен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Вверх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Вниз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Горизонт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153e"/>
                </a:solidFill>
                <a:latin typeface="Arial"/>
              </a:rPr>
              <a:t>5.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Определите направление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равнодействующей сил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153e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и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153e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А. 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Б. 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В. Нет правильного ответа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7454880" y="3071880"/>
            <a:ext cx="785880" cy="78588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7740720" y="2571840"/>
            <a:ext cx="214200" cy="660240"/>
          </a:xfrm>
          <a:prstGeom prst="upArrow">
            <a:avLst>
              <a:gd name="adj1" fmla="val 50000"/>
              <a:gd name="adj2" fmla="val 18250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7740720" y="3357720"/>
            <a:ext cx="214200" cy="1193760"/>
          </a:xfrm>
          <a:prstGeom prst="downArrow">
            <a:avLst>
              <a:gd name="adj1" fmla="val 50000"/>
              <a:gd name="adj2" fmla="val 33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85080" y="234936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00153e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65000" y="4292640"/>
            <a:ext cx="4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00153e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5672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101080" y="429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2800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35280" y="1052640"/>
            <a:ext cx="684036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Самопроверка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1-А, 2 – Б, 3 –В, 4 – А, 5 – Б 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Поставить отметку: 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     (лист самооценки)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«5» - все ответы верны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«4» - одна ошибка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«3» - две ошибки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   «2» - более двух ошибок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1323" t="0" r="36258" b="22165"/>
          <a:stretch/>
        </p:blipFill>
        <p:spPr>
          <a:xfrm>
            <a:off x="5292720" y="3500280"/>
            <a:ext cx="3456000" cy="2878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rcRect l="16026" t="6414" r="17320" b="4490"/>
          <a:stretch/>
        </p:blipFill>
        <p:spPr>
          <a:xfrm>
            <a:off x="1763640" y="260280"/>
            <a:ext cx="3600360" cy="3095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2771640" y="1197000"/>
            <a:ext cx="41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6"/>
          <p:cNvSpPr txBox="1"/>
          <p:nvPr/>
        </p:nvSpPr>
        <p:spPr>
          <a:xfrm>
            <a:off x="1547640" y="2421000"/>
            <a:ext cx="6985080" cy="14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лавание тел</a:t>
            </a:r>
            <a:endParaRPr b="0" lang="en-US" sz="1800" spc="1" strike="noStrike">
              <a:ln w="0">
                <a:noFill/>
              </a:ln>
              <a:solidFill>
                <a:srgbClr val="00206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63640" y="4437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</a:rPr>
              <a:t>Цель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</a:rPr>
              <a:t>: Изучить условия плавания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941400" cy="1370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Динамическая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5892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Динамическая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63640" y="1484280"/>
            <a:ext cx="6912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1, 2, 3, 4, 5 – все умеем мы счи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Раз! Подняться, потяну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Два! Согнуться, разогну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Три! В ладоши три хлопка, головою три ки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На четыре – руки ш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Пять – руками помах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Шесть – за парту тихо с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0" t="0" r="76036" b="0"/>
          <a:stretch/>
        </p:blipFill>
        <p:spPr>
          <a:xfrm>
            <a:off x="1547640" y="2565360"/>
            <a:ext cx="1897200" cy="2276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>
            <a:lum bright="-6000"/>
          </a:blip>
          <a:srcRect l="34546" t="0" r="41207" b="0"/>
          <a:stretch/>
        </p:blipFill>
        <p:spPr>
          <a:xfrm>
            <a:off x="4211640" y="2637000"/>
            <a:ext cx="1882800" cy="223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rcRect l="68123" t="0" r="6685" b="0"/>
          <a:stretch/>
        </p:blipFill>
        <p:spPr>
          <a:xfrm>
            <a:off x="6588000" y="2637000"/>
            <a:ext cx="1946520" cy="2219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1908000" y="189000"/>
            <a:ext cx="638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зучение условий плавания те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3280" y="5157720"/>
            <a:ext cx="63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Вывод по результатам работы сделать  с использованием учебника стр. 120,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170028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50"/>
                </a:solidFill>
                <a:latin typeface="Times New Roman"/>
              </a:rPr>
              <a:t>Цель работы: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выяснить условия плавания 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0" t="0" r="76036" b="0"/>
          <a:stretch/>
        </p:blipFill>
        <p:spPr>
          <a:xfrm>
            <a:off x="1835280" y="476280"/>
            <a:ext cx="1741320" cy="2089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>
            <a:lum bright="-6000"/>
          </a:blip>
          <a:srcRect l="34546" t="0" r="41207" b="0"/>
          <a:stretch/>
        </p:blipFill>
        <p:spPr>
          <a:xfrm>
            <a:off x="4356000" y="476280"/>
            <a:ext cx="1760760" cy="2087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rcRect l="68123" t="0" r="6685" b="0"/>
          <a:stretch/>
        </p:blipFill>
        <p:spPr>
          <a:xfrm>
            <a:off x="6732720" y="476280"/>
            <a:ext cx="1830240" cy="2087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42920" y="2924280"/>
            <a:ext cx="777708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50"/>
                </a:solidFill>
                <a:latin typeface="Times New Roman"/>
              </a:rPr>
              <a:t>           </a:t>
            </a:r>
            <a:r>
              <a:rPr b="1" i="1" lang="ru-RU" sz="2800" spc="-1" strike="noStrike">
                <a:solidFill>
                  <a:srgbClr val="000050"/>
                </a:solidFill>
                <a:latin typeface="Times New Roman"/>
              </a:rPr>
              <a:t>Вывод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тонет в жидкости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lt;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тяж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ж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&lt;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т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плавает в жидкости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я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 или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всплывает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gt;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я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 или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gt;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5:22:55Z</dcterms:created>
  <dc:creator>User</dc:creator>
  <dc:description/>
  <dc:language>en-US</dc:language>
  <cp:lastModifiedBy>Натка</cp:lastModifiedBy>
  <dcterms:modified xsi:type="dcterms:W3CDTF">2013-03-27T14:08:25Z</dcterms:modified>
  <cp:revision>15</cp:revision>
  <dc:subject/>
  <dc:title>Слайд 1</dc:title>
</cp:coreProperties>
</file>